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8F3-747C-4632-ABCE-B56115BC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92D-A4F1-4690-8DBE-2A7DE0EC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374-0059-415C-9C03-4E2B957A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738-C660-481E-8CE9-0A2DBCE6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E7F-A021-45F7-94F4-BF060BDE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05D-621F-4118-8F78-D26F02C4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723-5DDD-435F-99BB-DFC4BEC8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736-5E03-429D-98E2-54C1C709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4B4-5932-4F89-B965-8D68EF10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79C-4462-4579-AA39-9C9DF248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FF9-95C8-4E6E-B6F4-F1D6B476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141-E8C6-47E2-AC88-76052525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A0A3-68A2-4427-A759-C9892BA4B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zvoj vzdělávání se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pracova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uzana Kašpárk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nka Pelikán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76200"/>
            <a:ext cx="8686800" cy="66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žská ošetřovatelská škol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yla  ČSČK předána do působ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átní zdravotní správ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ČSČK zůstal organizátore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vozovatelem krátkodobých kursů. V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ravské Ostravě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aly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ednoroční kursy pro ošetřovatelk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které byly vyšš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ou předchozích tříměsíčních kurs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3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 Ostravě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yl zřízen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stav pro vzdělávání porodn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sistent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rvní svého druhu v ČSR. Na jeho prosazení mě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zásluhu doc. MUDr. František Pachner. Na Slovens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yla zřízena civiln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rajinská ošetřovatelská šk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. R. Štefánika  v Turč. Sv. Martině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3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yla otevře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škola pro výcvik dietních pracovni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to záslu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enského výrobního spolk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za podpory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inisterstva škols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 zdravotnictv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853416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3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běhl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I. konference o odborném ošetřovatelském školstv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dnání účastníku směřovalo ke sjednocení odlišných učebn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ánů a osnov škol českých a německých a k potřebě jednotný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čebnic. Byl zde vznesen požadavek na zavedení specializačn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ursů u absolventů škol pro laboratoře, rentgen, fyzikální terap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instrumentování. Česká ošetřovatelská škola v Praze je stá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dinou civilní školou na území Čech a Morav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3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l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sarykova státní škola zdravotní a sociální péče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by novým obsahem dávala absolventkám solidní zdravotnic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lad i pro péči kurativní. Výše školného a internátní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platku přesahovala možnosti širších vrstev obyvatelst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 otevření byly zahájeny dva kursy v sociálně zdravotní péč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eský a německý. Škola přijímala pouze maturantky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80880"/>
            <a:ext cx="86868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čátkem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u 193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yl pro diplomované sestry uspořádán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hotovost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absolvovalo jej 350 diplomovaných sest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nášky se konaly denně od 18 do 20 hodin ve Všeobec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mocnici v Praze. Za kurs se platilo 10 Kč. Pro dobrovol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stry se připravovaly kursy na 50 místech ČSR, kde se učily m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ázet s  plynovými maskami.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ČSČ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se zabýval po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onných ustanovení úkoly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PO ( Civilní protileteck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rany )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eloval na vysokou mravní a odbornou úroveň těc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eří budou předání vojenské správě. Nepřetržitě se školi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3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yly otevřeny další dvě školy a  t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ěmecká ošetřovatelská šk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gregace Dcer Největšího Spasite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e Znojmě a čes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ivilní Stát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šetřovatelská škola ČSČK v Moravské Ostravě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457200"/>
            <a:ext cx="8610480" cy="58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 září 1938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yly krutě dotčeny životní podmínky našeho stá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nichovskou dohodou čtyř velmocí.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tráta uzemí ČS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ětována k záchraně evropského míru s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ojevila ve ztrá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7% všeobecných veřejných nemocnic, 34,6% ostatn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mocnic, 31% ústavů pro choromyslné, 40% léčeben 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bc, 46% ozdravoven a 65% soukromých sanatori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 zabraném uzemí zůstalo i 5 řádových ošetřovatelských šk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 Opavě, ve Znojmě, v Ústí nad Labem a na Slovensku 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šicích a dva tisíce ses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Ministerstvo zdravotnic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ganizovalo jen krátkodobé kursy pro pracovnice, přiděle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tiepidemické akci v uprchlických tábore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 prosinci 193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yl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inisterstvo zdravotnictví a těles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chovy zruše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rovněž byl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ruše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 samostat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inisterstv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ociální péč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místo nich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říze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d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inisterstvo sociální 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dravotní správ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Perspektiv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dělávání sester ustupovalo válečnému období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685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vní česká ošetřovatelská škola při  c.k. všeobecné nemocnici v Pra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905120"/>
            <a:ext cx="716292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14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olek  pro povznesení stavu ošetřovatel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dnatelka, učitelka Františka Fajfrová stala se prv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stavenou první české ošetřovatelské školy v Pra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Ječné ulici, zde vybudován pro budouc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šetřovatelky i školní internát. Otevření školy by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dáleno z důvodu válečných 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1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tevření první české ošetřovatelské školy, současn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 ní  byla otevřena i německá škola pro ošetř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mocných na Karlově náměst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762120"/>
            <a:ext cx="7924680" cy="56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k 191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vních 10 absolventek dvouleté c. k. školy pro ošetř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ocných v Praze ukončilo  své ošetřovatelské vzděl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žením praktické i teoretické zkoušky.  Byly první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trami 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plomem o ošetřování nemocný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který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ravňoval užívat titul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plomovaná ošetřovatelk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no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dznak diplomované ses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k 191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eská ošetřovatelská škola v Praze – ukončilo vzděl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absolventek. Následující ročníky byly početnější, každ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ka musela  mít ke  studiu  způsobilost a do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méně 20 let. Později byla věková hranice o 2 rok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íže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iplom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3656160" cy="4319640"/>
          </a:xfrm>
          <a:prstGeom prst="rect">
            <a:avLst/>
          </a:prstGeom>
          <a:ln w="0">
            <a:noFill/>
          </a:ln>
        </p:spPr>
      </p:pic>
      <p:pic>
        <p:nvPicPr>
          <p:cNvPr id="47" name="znak1" descr=""/>
          <p:cNvPicPr/>
          <p:nvPr/>
        </p:nvPicPr>
        <p:blipFill>
          <a:blip r:embed="rId3"/>
          <a:stretch/>
        </p:blipFill>
        <p:spPr>
          <a:xfrm>
            <a:off x="4191120" y="1079640"/>
            <a:ext cx="472428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76200"/>
            <a:ext cx="8229600" cy="66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 roce 1919 začali lékaři požadovat pokrokovější vzdělá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šetřovatelského personálu. Rakouskou koncep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avotnictví nahrazuj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ociálně zdravotní lini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dporova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esidentem T. G. Masaryke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 jeho dcerou Alicí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terá zaujímala funkci předsedkyně ČSČ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2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ráva první české ošetřovatelské školy v Praz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řešla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uko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ČSČ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Kuratorium, které školu řídilo, bylo zastoupe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 universitními profesory ( ministerstvem zdravotnictví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ělesné výchovy, zástupcem zemské správy politické, ČSČ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editelem Všeobecné nemocnice a předsedkyní Dámské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boru 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ditelky školy – Miss M. G. Parsons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ředsed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uratoria byl prof. MUDr. K. Weigner. Škola odpovídala 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bornou přípravu ošetřovatelek pro nemocnice a porad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za výchovu budoucích vedoucích učitelek. Na  závěr šk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ládaly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ezinárodní slib Florence Nighting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741240"/>
            <a:ext cx="853452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2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čela  Státní české ošetřovatelské školy se dostávají česk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stry, které převzaly vedení po odchodu amerických se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ditelkou škol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yla jmenována  diplomovaná sest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lva Machar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funkci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sistent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ykonávaly diplomovan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stry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. R. Tobolářová a F. Růžičk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Do prvního roční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ylo přijato 53 žákyň dosud největší počet. Škola rozhodov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zařazení svých absolventek na pracoviště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2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ste zájem o studium ošetřovatelství v r.1924 120 uchazeč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mi důvody jsou rostoucí nezaměstnanost a to, že ško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vzaly české sestry. Ředitelka školy Sylva  Machar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ujala redakce rubriky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 Ošetřovatelská hlídka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 časop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právy ČSČ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Velká pozornost je věnována praktickém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cviku a práce na odděleních je pod vedením zkušených se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457200"/>
            <a:ext cx="8458200" cy="73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iplomovaným sestrá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kterým bylo umožněno studovat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tní revers, byly zadrženy diplomy až do doby spln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innosti, kterou byla tříletá práce ve zdravotní službě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léčebných ústavech byla od sester vyžadována odpovědn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 - osobní hygienu nemocného, za čistotu a pořádek jeho okol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vytváření ovzduší domova, napomáhajícího k léč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všechny přípravy pro léčebné přípr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všechny přípravy při léčebných zákrocích a za svěřen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stavní maj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3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řízen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átních ústavů pro vzdělávání a výcvik porodn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sistent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 desetiměsíčním školením.Doplňkové vzdělání 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pl. sestry formou pokračovacích kursů při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šší šk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ociální v Praze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6 měsíční kurs v sociální zdravotní péč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bsolvovalo 18 dipl. sester. Kurs rozšířil znalosti v pedagogi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právech a v sociální péč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457200"/>
            <a:ext cx="845820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lňková školení byla zaměřena např. pro rentgenové asistentk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péči o děti i jiná. Školení se dostávalo dívkám a ženám v ob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éči o dítě v dvou pokrokových ústavech v Praze - Krči a v Ostrav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k 193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lkový počet absolventek oš. škol, civilních i řádových b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místěn následovně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plomované sestry        civilní               řádové              celkov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rodnosti:                     čes.     něm.      čes.     něm.         poč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oš. školách                    3          1           1          -        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nemocnicích a léč. úst. 212      195        69       179            6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děts. prevent. ústavech 14        12          -          -               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OZSR                           15         -            -          -  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soc. zdrav. poradnách   58        35          -          -                9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nemoc. poj. a fondech  21        5            -          -               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soukr. rodinách            45        30          -          -                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dalším obd. studiu      74        60          -          -                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42      338        70       179            102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6668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429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324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457200"/>
            <a:ext cx="84582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šetřovatelé – muž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bratři různých církevních konventů, nap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známějšíh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ádu Milosrdných bratř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ilovali o odbor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dělání. Bylo jich přes tisíc a dosud úspěšně pracovali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éčebných ústavech v Praze, v Prostějově, ve Valticí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Kuksu, v Brně a ošetřovatelství se stalo jejich životn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lání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 řeholních ošetřovatelských školác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e pomocný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ktickým ošetřovatelkám umožňovalo vzdělání alespo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ou odborného minima a to přímo na pracoviští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olek diplomovaných sester ( vznik v roce 1921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iloval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šší počty civilních diplomovaných sester, a o otevření dalš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šetřovatelských škol. Prosazoval prodloužení studia  o j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k, aby mohl  být studijní program a praktický výcv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hloub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9:17:56Z</dcterms:created>
  <dc:creator>Pavel Macek</dc:creator>
  <dc:description/>
  <dc:language>en-US</dc:language>
  <cp:lastModifiedBy>xxxx</cp:lastModifiedBy>
  <dcterms:modified xsi:type="dcterms:W3CDTF">2004-10-26T11:52:29Z</dcterms:modified>
  <cp:revision>63</cp:revision>
  <dc:subject/>
  <dc:title>Rozvoj vzdělání sester</dc:title>
</cp:coreProperties>
</file>