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A71-4FD9-47C7-B745-77BD08B4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7CE-4C62-4A8D-B6E4-146B8CB4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B67-FFEC-466D-AE87-95AE219B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032-873B-473F-8D06-139D7EF6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30B9-2E7B-469F-9DA2-122BEDEE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936E-5419-4D00-9BCE-AE490338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94B1-BAE1-48FF-9854-DAC53B8A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D44F-5085-49EA-8EB0-AF7031A4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D9A6-7B27-4DE8-A224-65B5FA43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7020-B08F-47D4-9686-B86F14E7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0F36-42D2-4A94-BC49-D92CE829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D32D-701A-4E4B-970B-07F7C605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D8CC-946E-4F23-89E5-26FE559C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45EF-6812-4498-BB09-5B5409E4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E35D-CB49-41E6-BEB0-00A51626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2DF0-EBCB-4448-B53D-42A7E1C6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D64E-30A6-4082-84F7-1D52C6A2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849-0A0F-4EF1-A0B0-4A838045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736-848C-4332-B976-B9D62602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59F-D3FE-4154-BAAC-C21814C2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020-E0D5-42BE-8D66-DC0A2700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25C-ED16-4469-8083-187484A4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131-3CCD-4D7E-A0DE-5E390023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F83-2A40-408D-812F-9697A16D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F07D-6AE7-4F86-8412-FB0F6F088B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A58E-E21A-4402-9C8A-713D551F53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352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Spolková činnost diplomovaných sester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Sjez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5516640"/>
            <a:ext cx="45388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00"/>
                </a:solidFill>
                <a:latin typeface="Times New Roman"/>
              </a:rPr>
              <a:t>Zpracovali: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2600" spc="-1" strike="noStrike">
                <a:solidFill>
                  <a:srgbClr val="ffff00"/>
                </a:solidFill>
                <a:latin typeface="Times New Roman"/>
              </a:rPr>
              <a:t>Iva Šafránková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cs-CZ" sz="2600" spc="-1" strike="noStrike">
                <a:solidFill>
                  <a:srgbClr val="ffff00"/>
                </a:solidFill>
                <a:latin typeface="Times New Roman"/>
              </a:rPr>
              <a:t>Jan Jedone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řeba dalšího vzdělávání ve speciálních úsecích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etika, rentgen, radioterapie, laboratorní metody, instrumentování, nervové a duševní choroby, administra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sjezdu přítomné i řádové se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šetřovatelství má jít ruku v ruce s lékařstvím“, ale je několik desetiletí poz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ní jednot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ém se stravováním lékařů a ošetřovatel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louhá pracovní doba, až 36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ní koordinace mezi prací sester a sociálních pracov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ní koordinace mezi ČSČK, SDS, ministerstvem sociální péče a ošetřovatelským poradním sbo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Domluva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SČK se staral o pohotovost ošetřovatelskému personálu pro případ epidemie, náhlé katastrofy a vál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S se staral o vedení sester, ošetřovatelských škol a nostrifikace diplo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konným orgánem ošetřovatelského referátu při ministerstvu veřejného zdravotnictví se stal ošetřovatelský poradní sb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jezd byl dokumentován v souborné publikaci o československém ošetřovatelství- Sborník II. Sjezdu diplomovaných sester- ošetřovatelek v ČS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S poslal rezoluci ze II. Sjezdu na ministerstvo zdravotnictví a tělesné výcho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ování ošetřovatelských škol pro světské ošetřovatel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dání učebnic pro ošetřovatelské šk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xe na venkovských nemocnicích pro absolventky pod vedením diplomovaných s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ktorky ošetřovatelských škol pracující v nemocnici spolupracují s lékařským učitelským sborem, patří do učitelského sboru ošetřovatelské šk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rátkodobé kurzy pouze pod určitými podmínk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plňkové kurzy pro diplomované sestry po několika letech pra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Úprava sociálních poměrů sester-ošetřovatel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vláštní kategorie pro diplomované sestry- ošetřovatel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Úprav platu dle úřednick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ovní řád- pracovní doba, hygiena bydlení, stravování, pracovní stejnokro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hrana ošetřovatelství jako posl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85256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k 1931 byl mezníkem ve vývoji čsl. ošetřovatel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hodnocení dosavadní činnosti s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voj ošetřovatelské péč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S chtěl udržovat a zvyšovat standard ošetřovatelské péč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ze 1 ošetřovatelská škola, proto i málo s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dostatek kvalifikovaných ošetřovatelek a více nekvalifikovaný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5- SDS dal všem členkám registrační legitimace s fotografi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á předsedkyně d.s. J. Andělová (193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5- otevření ošetřovatelské školy Dr. E. Beneše v Hradci Králo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chova pouze řádových s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S usiloval o místo civilní sestry představen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dpovídá za veškerý civilní personá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zor SDS, že na 1 sestru u lůžka by mělo připadnout pouze 6 nemocný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S zveřejňoval své novinky v časopisech Čsl. nemocnic, zprávy ČSČK, Zdraví lidu, U kolébky, Č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Celostátní sjezd diplomovaných sester-ošetřovatelek v ČSR- 6.- 8. 12. 19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šíření ošetřovatelské průpr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Ústavní a sociální práce diplomovaných ses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k 1921- založení Spolku absolventek školy ošetřovatelské (dále spole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čet členek se každoročně zvyš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lavním cílem byla výchova a vzdělávání s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řádání odborných přednášek a kurzů se zdravotním odborem ČSČ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aha docílit, aby sestry byly odborně vzdělan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III. sjezd zdůraznil požadavky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budovat další školy pro civilní sestry a školení rozšířit na 3 ro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lupůsobit na úpravách osnov ošetřovatelských šk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atizovat místa ošetřovatelek pro diplomované se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řídit místa představených a vrchních s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lizovat vládní naříz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tanovit diplomované sestry jako spolupracovnice úředních lékař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řídit referát ošetřovatelství při ministerstvu zdravotnic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937 1. civilní sestra představená v nemocnici na Bulovce d.s. J. Roušar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věřena organizací ošetřovatelské služby, odborný doh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 stejné době- vrchní sestra ve Zlíně v Baťově nemocn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940- podklady pro funkci civilní sestry představené nazývané- VRCHNÍ SES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937- 462 diplomovaných sester ve S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olek prosazoval maximum 30 lůžek na ošetřovatelské jednot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šetřovatelský poradní sbor 1938- otázky civilních ošetřovatelských škol, krátkodobé kurzy, práce v ústav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stry zastupoval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d.s. M. Anzenbacherová- sociální služ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d.s. A. Rypáčková- předsedkyně S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d.s. E.R. Tobolářová- civilní ošetřovatelské služ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átkodobé kurzy- příprava sester na vál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3.9. 1938 mobilizace čsl. armády- sestry v pohotov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937 – časopis Diplomovaná ses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79352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Děkujeme za pozornos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V ČSR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5800" y="1981080"/>
          <a:ext cx="7772400" cy="4722840"/>
        </p:xfrm>
        <a:graphic>
          <a:graphicData uri="http://schemas.openxmlformats.org/drawingml/2006/table">
            <a:tbl>
              <a:tblPr/>
              <a:tblGrid>
                <a:gridCol w="990720"/>
                <a:gridCol w="914400"/>
                <a:gridCol w="2133360"/>
                <a:gridCol w="762120"/>
                <a:gridCol w="2971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šetřovatel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plomovaných ses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6- Spolek byl přičleněn k sociálně zdravotnímu odboru ČSČ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5- velká zdravotnická výstava v Hradci Králo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6- spolupráce Spolku s Čsl. Ochrannou matek a dětí, zásady ošetřování kojence a rodič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olek vydával a rozesílal zprávy pro mimopražské se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ávrh uniforem pro se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iplomované sestry měly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přednášek a kurzů o hygieně a domácím ošetřování, správné výživ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jezdy: záslužná a významná aktivita diplomovaných s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sjezd diplomovaných sester byl 2.-5.7. 19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účastnilo se ho 57 s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sedkyní Spolku byla d.s. Šindler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aha o založení svazu sester ošetřovatelek Československé republik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erence pravidelně 1x 2 rok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Konečné rozhodnutí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Úpravy služného podle služebních 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dení systematizace sesterských míst ve státních léčebných ústav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vrh na dovolenou ne méně než 4 týd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vrh na úpravu pracovní doby, ubytování, ochrana uniformy, odlišení znaku českých a německých diplomovaných s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štění penze po 30. služebních let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7 Spolek se rozrostl o 45 absolventek řádové školy v Opav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8- 40 absolventek Vyšší školy sociál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8- Nový název Spolku=Spolek diplomovaných s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aha počet ošetřovatelek s odborným vzděláním, prosadit funkce vrchních sester a představených v nemocnicí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sjezd DS- ošetřovatelek v Praze, prosinec 19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měny ve vzdělávacím 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loužit dobu škol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íce  odborné pra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ijímat dívky, které už zkušební dobu v nemocnici proděl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rátkodobé kurzy pouze jako nouzové opat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přísnění podmínek pro přijímání uchazeček do 3.-6. měsíčních kurz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17:06:39Z</dcterms:created>
  <dc:creator>Michal Koudelka</dc:creator>
  <dc:description/>
  <dc:language>en-US</dc:language>
  <cp:lastModifiedBy>Milada</cp:lastModifiedBy>
  <dcterms:modified xsi:type="dcterms:W3CDTF">2004-10-31T16:26:48Z</dcterms:modified>
  <cp:revision>6</cp:revision>
  <dc:subject/>
  <dc:title>Spolková činnost diplomovaných sester</dc:title>
</cp:coreProperties>
</file>