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341-6B47-4A12-9011-583BD8DD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881-279D-480A-99E9-A67641F1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3F9-85CB-40D5-91BC-C11B038B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9AA-9215-4FE7-8636-EAFDEE4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056C-0214-4FA8-916C-79BACE3F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8BCE-D737-40FE-A355-32BD048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BD7-040D-4CE8-B202-9A476FE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57AD-AF71-43F0-95E7-A79C144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6D8-93DD-4B1F-85B4-7CDAF04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9D57-FA01-44C5-9E8C-E318EA0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571-4C91-4A8A-9D43-ADFBB30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DE9-4774-4782-93B7-A18A808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2BB8-4F64-456A-9E9A-F7DDEC1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4B2-59E2-4A3A-9397-0D2FE23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51E-18B9-4A3D-97BF-003362B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CEEB-3610-474F-8AC5-78363404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5D6-81B3-493E-B9DB-F8BCF43C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AD7-A89B-4E2B-A766-8A689684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AE7-D0A2-464B-8F01-E1980509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128-EB68-42B5-A091-48548B1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B65-06EB-45DC-8061-BF8F40AC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17E-F5A9-4ACF-9621-6C0F7AE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26D-B9FD-49D0-A086-DA47589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CCB-5F15-4F3B-A28B-1079516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D42E-E02B-46C5-AEEA-2E75574E24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EFE9-24F6-4637-A5F0-7F800C4DDB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Československý červený kříž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Čadilová Kateři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brovolné dárcovství kr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tvoření stanic první pomo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školení mladých zdravotníků a dobrovolných se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moc při celostátním očkování proti obr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řádání táborů pro slabé dě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ace Vodní záchranné služ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etová revoluce a vznik ČČ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989 – návrat k samostatnosti a nezávisl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ávrat části majetk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991 – zvláštní složka Mládež ČSČ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ozdělení státu – zánik ČSČK a vznik ČČ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ČČK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árcovství krve, výuka první pomoc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zdravné pobyty pro postižené dět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limaktické pobyty z ekologicky ohrožených oblastí Č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řediska soc.služby, geriatrická centra, soc.dom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átrací služba Č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umanitární služby do zahranič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olektivní členové – Vodní záchranná služba ČČK, Horská služba ČR, Sdružení záchranných brigád kynologů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Sestry v sociální službě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dle Mezinárodního ČK ustavena Liga Červených křížů, jako světová unie se sociálně-zdravotním cíl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aložení roku 1919 v Cann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ejdůležitější otázka – ošetřovatelstv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aložen ošetřovatelský odbor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922 –připojen poradní sbor zástupkyň ošetřovatelského stav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Úkol Ligy ČK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vznesení úrovně ošetřovatelstv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dpora odborného školení ošetřovatele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20 –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kyn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 pořádání kurzů pro sestr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mí být kopiemi ošetřovatelek bývalého Rakou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borné vzdělání a všeobecné vzdělání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avní charakter, intelig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ělesná a duševní sí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urz – 3 měsíce, teorie i prax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čební pro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obsluhování nemocný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asepsi, antisepsi a dezinfek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zlomeninách a výmknutí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povšechné hygien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první pomo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uka o nemocech vnitřní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kteri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akončení kurzu – vysvědčen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možněn další doplňující výcvi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ři organizaci pomáhala americká mise zdravotníků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obrovolná soc.péče se začínala  rozvíjet – České srdce, Armáda spásy, Katolická charit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ČSČ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umanitární občanské sdružen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ůsobí po celém světě v oblasti humanitární, sociální a zdravotn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e pomocnou organizací vojenské zdravotní služb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 současné době má 91 040 členů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ále existovaly Komise pro péči o mládež, Péče o dítě, ČSL Matek a kojenců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ozvoj sociálního ošetřovatelstv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918 – jednoletá ženská Vyšší sociální škola v Praze, později dvouletá, a přijímali i chlapc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bsolventi pracovali – v péči o mládež, v poradnách, v úřadovnách ČSČK, jako tajemníci humanitních spolků, výchovných ústavů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 válce vyšší odborné a mravní nároky na ošetřovatelk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 poradnách vedoucí pracovníci diplomované sestry – absolventy dalšího studia pro sociální péči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Jejich prác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evidence nemocných, záznamy o návštěvách, o výdeji léků, o přijmu režijního poplatku, organizace práci stanic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Sestra v poradně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uvědomovala matky o lékařských prohlídkách dětí, návštěvy v rodinách, rozhovory s učiteli, asistence lékaři při vyšetřování, prohlížení dětí, zjišťovala poměry v rodině, poznatky předávala lékař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škerou činností sester prolínala zdravotní výchov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lání ČSČ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sláním ČSČK je zejména předcházet a umírňovat utrpení, chránit zdraví, život a úctu k lidské bytosti, podporovat vzájemné porozumění, přátelství a mír mezi národy bez rozdílů národnostních, rasových, náboženských, třídních a politických a usilovat o naplňování základních principů hnutí Č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znik ČSČ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ořeny již před 130 lety – „Vlastenecký pomocný spolek pro Království české“, z roku 186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ficiální datum založení – 6.února 1919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ředsedkyně Dr. Alice Masaryková – od roku 1919 do roku 193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oku 1919 schválení stanov Ministerstvem vnitr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řistoupení ČSR k Ženevské a Haagské konvenc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12.1919 – uznání Mezinárodním výbor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920 – člen Ligy společností ČK a Červeného půlměsíce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válečné obdob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hrazování nedostatků Státní zdr.správ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prostředkování styku rodin se zajat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moc uprchlíků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anační a profylaktické akce proti epidemií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dování zdr. ústavů – poradny, útulky, jes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voj zdr. osvěty, pomoc při živelných pohromách a hospodářské kriz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u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.srpna 1940 – ČSČK rozpuštěn, zabaven majet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Řada členů zatčena, vězněna a poprav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tatní se zapojili do odbo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chrana vězňů z transportů a pochodů smr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moc v oblastech bombard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vidace epidemie skvrnitého tyfu v Terezín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moc při Květnovém povstání v Pra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Činnost po 2. světové vál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kračování v tradicích z první republik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novení přípravy ošetřovatelek, samaritánů a dopravní zdravotní služb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átrací služba ČSČ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kce na školách – „Dětem více kalorií“, „Mládež sobě a republice.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Únorový politický převrat 1948 – ztráta samostatnosti a nezávisl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dklon od principů ČK v rámci přežití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ačlenění do Národní fronty, dorost násilně do Pionýrské organizace a ČS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át převzal péči o zdraví lidu, ČSČK úspěšně doplňoval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0:39:01Z</dcterms:created>
  <dc:creator>Baldová</dc:creator>
  <dc:description/>
  <dc:language>en-US</dc:language>
  <cp:lastModifiedBy>Baldová</cp:lastModifiedBy>
  <dcterms:modified xsi:type="dcterms:W3CDTF">2004-11-01T12:18:18Z</dcterms:modified>
  <cp:revision>2</cp:revision>
  <dc:subject/>
  <dc:title>Československý červený kříž</dc:title>
</cp:coreProperties>
</file>