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90C-B043-45F3-ACD8-6D6B36AEE97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ádní nařízení neodlišovalo diplomové od jiných sester neodlišovalo vzdělání diplomových od jiných s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covní doba:podle potřeby služ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u čekatelskou na systematizované místo stanovilo jen diplomovaným sestrám a těm i dovolili užívat titul diplomovaná s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6A6-5DCB-4513-BDB2-746326E9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410-3F78-4724-87F8-2EA62723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2EE-E303-45C2-B274-18406B47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C54-17DC-4EF3-9323-28C32FA5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ECA2-D7BB-4B2F-96DD-C319955A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5E5-4FAA-450C-B0C4-EF570AF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2E8F-ED56-42C1-AA6D-0006391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12E1-4166-4FF5-A5A0-BC71D4B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F0F8-9ABA-4C1D-B11F-057510F9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BD84-D9B6-4686-AA79-04D5DFE6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7E2-B157-4CB7-BFD6-E2D3FE9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1C8-1ADE-455B-B7A3-C25FE1B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70C-70B2-4537-87B1-3CBEEFB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7D13-4CFF-4098-B57C-CC33F09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E9FB-2DE0-48EF-98DA-5C89948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906-CCD9-4CD0-8424-4E6A3779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8F3-1BC9-429D-9165-49418661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5C2-C878-42E3-8579-53B629C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D9-71F4-4882-964A-C1846A7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BBF-615F-447D-B326-42B256A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0BF-6D7C-4DF8-94A0-A67E54FB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37C-ACEC-4E9E-A45B-FD82917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DD6-4480-412D-9224-21B50F3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7CC-4B13-4084-A0B1-8935749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7CF-713F-4B19-A7EA-D442F580609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F4CF-D958-4515-BB85-03FE3DA4182C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Služební instrukce. Platové poměry sest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1011240" cy="2257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71920" y="5791320"/>
            <a:ext cx="58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pracovala Tereza Mrkvičkov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Times New Roman"/>
              </a:rPr>
              <a:t>Služební instrukce sester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80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ení ošetřovatelek 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ošetřovatelky ustanovené definitivně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ošetřovatelky pomoc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ošetřovatelky s diplom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bez diplo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šetřovatelský referát se začal  společ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ošetřovatelskou školou starat o rozmisťování nových absolven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šlo v platnost nové vládní na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„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 úpravě služebních a platových poměrů ošetřovatelů v civilních státních ústavech léčebných a humanitních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volená byla 8-18 dnů podle platového zařa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zijní důchod byl přiznáván po 60 letech vě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 opuštění služby z důvodu sňatku, měla právo na odchodné, ale nárok na penzi ztrác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33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Times New Roman"/>
              </a:rPr>
              <a:t>Práva a povinnosti ošetřovatel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vinností bylo bydlet a stravovat se za úhradu v ústav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chování lékařského tajem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přijímání zpropitné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šetřovatelka byla povinna dostáti slibu, který odpřísáhla při závěrečných zkouškách byl  jí odňat odznak a odejmut dipl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prava se netýkala řádového ošetřovatelství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00"/>
                </a:solidFill>
                <a:uFillTx/>
                <a:latin typeface="Times New Roman"/>
              </a:rPr>
              <a:t>T</a:t>
            </a: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VK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rganizace Dale Carnegie Training® zjistila, že pro úspěšné představení řečníka jsou nezbytné následující prvky (TVKP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 nebo název přednášky. Vaším úkolem je přilákat posluchače na téma přednášky a jméno přednášející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náška by měla mít název, který posluchače upout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1" lang="cs-CZ" sz="4400" spc="-1" strike="noStrike" u="sng">
                <a:solidFill>
                  <a:srgbClr val="ffcc00"/>
                </a:solidFill>
                <a:uFillTx/>
                <a:latin typeface="Times New Roman"/>
              </a:rPr>
              <a:t>V</a:t>
            </a: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K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nam, který má přednáška pro posluchače. Upravte posluchárnu tak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 se posluchači mohli na přednášku plně soustřed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veďte základní důvody, proč je dané téma pro posluchače důležit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TV</a:t>
            </a:r>
            <a:r>
              <a:rPr b="1" lang="cs-CZ" sz="4400" spc="-1" strike="noStrike" u="sng">
                <a:solidFill>
                  <a:srgbClr val="ffcc00"/>
                </a:solidFill>
                <a:uFillTx/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fikace přednášejícího.  Zdůvodněte, proč je přednášející způsobilý přednášet posluchačům na dané té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borná zkuš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šeobecná uznáva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dělání a akademické titu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TVK</a:t>
            </a:r>
            <a:r>
              <a:rPr b="1" lang="cs-CZ" sz="4400" spc="-1" strike="noStrike" u="sng">
                <a:solidFill>
                  <a:srgbClr val="ffcc00"/>
                </a:solidFill>
                <a:uFillTx/>
                <a:latin typeface="Times New Roman"/>
              </a:rPr>
              <a:t>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Dovolte mi uvítat 'jméno přednášejícího'.“ Jméno vyslovte zřetelně a s nadše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asový limit: šedesát vteř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08:53:54Z</dcterms:created>
  <dc:creator>Terka</dc:creator>
  <dc:description/>
  <dc:language>en-US</dc:language>
  <cp:lastModifiedBy>Terka</cp:lastModifiedBy>
  <dcterms:modified xsi:type="dcterms:W3CDTF">2004-11-01T19:01:51Z</dcterms:modified>
  <cp:revision>2</cp:revision>
  <dc:subject/>
  <dc:title>Služební instrukce. Platové poměry sester</dc:title>
</cp:coreProperties>
</file>