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3BAA-D52A-4BF6-B47F-BFBA68D2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B0F-B70B-4993-9BEA-4EA83BAE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0FE-7A3E-4FDE-BE60-7D8114B0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1BC-8412-42BF-AF55-D5997231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679-2486-4804-A569-E65DAF45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DF9D-EF3D-4C99-883A-CAF7F2C1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61D-CE10-4B13-A843-D4389998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2230-F917-4D88-84E0-6650CF2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7A87-E46D-4A1E-9338-46328E8C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1E63-58C3-496F-9050-D186212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5D9-30EF-485E-AE07-01D9E48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F17-FDE2-40F7-A48F-1E18008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CD1-426E-4AE8-B99B-AF083680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744-E085-4D9A-9B2E-26E14FA9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2F6-32AF-4D8D-9136-104B155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4303-E07E-4779-93E1-488D17EA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692-738D-4CE1-9EBF-75D880AA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829-3708-49A2-AEF0-E1D85F58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9F0-52E3-4797-806D-C07F1C2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EF3-AFC8-4EF2-A0B1-778BE77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B0C-2249-4144-89B5-91170804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C46-0B1A-4DBE-BE57-90A90F0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719-F182-406D-9D83-AE9BEC0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3FA-DE48-474B-B533-C0B502D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FA0-14CE-431B-96F2-6FF3658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4B81-2ACA-4917-8062-712C13D2B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BA04-3CCC-4640-A4B0-A05394A90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00"/>
                </a:solidFill>
                <a:uFillTx/>
                <a:latin typeface="Arial Black"/>
              </a:rPr>
              <a:t>Mezinárodní rada</a:t>
            </a:r>
            <a:br>
              <a:rPr sz="6000"/>
            </a:br>
            <a:r>
              <a:rPr b="1" i="1" lang="en-US" sz="6000" spc="-1" strike="noStrike" u="sng">
                <a:solidFill>
                  <a:srgbClr val="ffcc00"/>
                </a:solidFill>
                <a:uFillTx/>
                <a:latin typeface="Arial Black"/>
              </a:rPr>
              <a:t>  sester – </a:t>
            </a:r>
            <a:br>
              <a:rPr sz="6000"/>
            </a:br>
            <a:br>
              <a:rPr sz="6000"/>
            </a:br>
            <a:r>
              <a:rPr b="1" i="1" lang="en-US" sz="6000" spc="-1" strike="noStrike" u="sng">
                <a:solidFill>
                  <a:srgbClr val="ffcc00"/>
                </a:solidFill>
                <a:uFillTx/>
                <a:latin typeface="Arial Black"/>
              </a:rPr>
              <a:t>International Council of nurse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-  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C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240" y="83772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638680"/>
            <a:ext cx="1812960" cy="951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tina Lerchov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3.Profesionální činnost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blast HIV/ A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éče o že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blast primární pé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blikační činnost IC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Nursing Rewi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N C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 Letter I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 JE ICN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N = mezinárodní organizace, sdružuj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dnotlivé sesterské organizace členský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m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zace založená sestrami pro se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ku 18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v současnosti sdružuje 126 členů, včetně ČR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še členství v IC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. 1933- Československo poprvé přija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N na kongresu v Paříži pod tehdejší                                                                                                                                                                                   sesterskou organizac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polek diplomovaných sester (1928- 19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.1947 – potvrzen zánik SDS v I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.1994 – začlenění ČAS do ICN, obnova spolu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ídlo ICN, kontaktní adres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dlo – Ženeva , Švýcars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resa – International Council of N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 Place Jean Mar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01 – Geneva, Switzer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– mail : www.icn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dení činnosti IC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zidentka – Christine Hancock ( GB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. 2001 zvolena na posledním kongres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N v Koda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olena na funkční období čtyř 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vá volba 200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polupráce ICN, cíle IC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N koordinuje svou činnost ve spolupráci s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větovou zdravotnickou organizací –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zací spojených národů – OS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ezinárodní organizací práce – 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66480"/>
            <a:ext cx="7620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 hlavní strategické cíle IC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osvětově podporovat a ovlivňo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šetřovatel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máhat sestrám při zdokonalov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šetřovatelských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 celém světě podporovat národní asociace sester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20320"/>
            <a:ext cx="769608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V současné době ICN orientuje svůj zájem na tyto oblasti :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. Společensko – ekonomické zajištění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orientace na bezpečnost při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lánování lidských zdro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ožnost kariérního růs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.Regulaci sesterské profese -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šetřova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ývoj vzdělávání s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tické probl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lidská prá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13:36:37Z</dcterms:created>
  <dc:creator>3.1</dc:creator>
  <dc:description/>
  <dc:language>en-US</dc:language>
  <cp:lastModifiedBy>3.1</cp:lastModifiedBy>
  <dcterms:modified xsi:type="dcterms:W3CDTF">2004-11-24T21:04:22Z</dcterms:modified>
  <cp:revision>12</cp:revision>
  <dc:subject/>
  <dc:title>Mezinárodní rada sester – International council of nurses  </dc:title>
</cp:coreProperties>
</file>