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73F-F1F3-475F-B491-C4478C66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87C-E412-47AD-BEAB-EAA4776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FE1-179D-4BEF-A49B-62E0EC16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A49-2796-4DA3-A9AD-2D713328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434B-0D78-4CE2-9C0B-53B2E004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C801-EF1E-47B3-9FFC-FA25AB6A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B48-2E17-41BF-9270-B208520F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CBF-26B7-4379-AFF7-6DCBB5F5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3F62-587B-435F-9666-F270F4E0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E37B-5E13-4747-B916-7C65168B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767-A5FE-4AA3-981B-0E44616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CFA-1CA9-432B-8EAE-8D2FC66E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F0D-949F-4A38-8244-59A2BF8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D07A-8A56-4838-9755-F6FFA06D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CDD8-9AF3-4A1D-AEFB-DE47565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1BF-1F33-46B9-ABCC-9AA5906C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EDB3-B0EF-4490-A2CD-17F1492D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84A-FC27-47E1-B982-23AC5F08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8AA-C0D2-42B0-B318-AB46A43A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F49-F816-4D5F-A1A9-F1011FA6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F42-060A-4656-94EC-4E013486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FF5-A185-400E-B99F-2690F8C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C8E-D504-4E18-AA2C-1FB294E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140-DFE4-43C4-BEE7-2F2FE0D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2B4-AAB5-4423-B89D-3635D44EF0A3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49F6-4F71-4D02-ABCE-1029811143D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D5AB-D7C6-4586-86E2-87E011D18A9A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92A-F120-480E-8687-3C42F4C65EB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r.1918 – 1939                                             Práce sester v léčebných ústavech. Lůžková zařízení. První civilní nemocnice.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rtina Mál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chaela Pejš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1950-3C64-4886-9AC7-DF005B016DD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0F5AB8F-7F82-4211-B8DC-60D4C6CC0F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Práce seste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oje nemocných = sály o 15 – 27 lůžk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pokoji pečovaly 2 – 3 ošetřovatel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covní doba byla uzpůsobená situačním podmínkám, řádové sestry pracovaly téměř nepřetržitě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stry pracovaly od 6 do 19 až 21 h. , jen v neděli končily v 17 – 18 h. a měly do 21 h. vycház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ěkde měly volnou celou jednu neděli v měs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522-8551-4711-93A4-749DE1A24D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E6B50-3C68-4D66-ACCB-BC9E9D4EFF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Další příklady pro představu o práci seste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ycházku se muselo písemně žádat (tzv. „pasírky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 noční službě měly sestry odpoledne volno 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ovolená neexistov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at činil asi 80 Kč za měsíc (boty stály 60 Kč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o ošetřovatelek pracovalo jen za jídlo a byd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2C1-C973-4E01-BD08-5016E54F8C9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ECF8B-BDF0-4D87-B617-6DBDE8F274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Osobní život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áce vyžadovala mladé, zdravé a odolné sí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stry se nesměly vdávat, pokud toto porušily, musely povolání opust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nto nepsaný zákon měl kořeny v celibátu řádových se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947-BED3-43F0-AF80-55138A3DAE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85FD0-A910-413A-A88F-0BFE725E92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Materiální vybavení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dostatek jídla pro nemocné i ošetřovatel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álo oblečení, léčiv, pomůcek k ošetř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 lékařských pomůcek se nevíce používal stetosk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TG vlastnily jen některé chirurgické klin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aboratorní biochemické vybavení bylo  v začátc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A07-D5AB-4D4E-8818-5123D190E4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58994-477F-43C2-BF78-F056E1D51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Prof. Dr. Ladislav Syllab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860 – 19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třil k největším příznivcům diplomových s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ojoval za prosazení odborného ošetřovatel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ěnoval se učitelské činnosti v oš. šk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čil také lékaře cenit si ošetřovatelské stránky péč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C0B-0960-46DE-8105-1A4069D2C5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B8A7E-DA45-499F-97F7-9FEA9725B6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Kategorie ošetřovatelek v léčebných ústavech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ŘEHOLNÍ SESTR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ráce silně nábožensky motivovan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PATROVNICE, BEZ VZDĚL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cházely v práci zdroj obži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menší skupina –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ŠKOLENÉ DIPLOM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ESTR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racovaly uvědoměle, usilovaly o zvýšení společenské úrovně ošetřovatel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2FF-220E-459A-B581-8D55900307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822DE-2119-4A28-8FF7-619D1A3047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Nemocnice v roce 192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e 158 nemocnic měla ¼ pouze jeden primariát, zpravidla chirurgický, případně oddělení pro léčbu T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n ve čtyřech městech mimo Prahu bylo více odborných oddělení – Liberec, Most, Plzeň, Ústí nad/La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všeobecných nemocnic bylo mimo Prahu 75, ale byly to jen „ubohé nemocničky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765-8057-4E88-B4CA-9AC6C59CD1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6D1DB-265B-422B-AC3B-C631ACB90A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Umístění nemocného v léčebném ústavu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lmi náročný a složit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vštěva lékaře – vyšetření zdravot. stavu + vystavení vysvědčení s diagnózou a indik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patření blanketu příslušné nemoc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plnění blanketu od léka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eslání žádosti a přije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ud byl nemocný upoután na lůžko, vše vyřizovali příbuz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530-A8F6-4801-B933-220C1AFDF7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21DBD-685D-4DC6-9248-24C8155BF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Další problémy spojené s hospitalizací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tříštěné nemocenské pojišt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ěkdy bylo zapotřebí dalších dokladů – vysvědčení chudoby, domovský list, a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jatí pacienti byli často velmi zanedbaní – špinaví, zavšivení, a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42B-EC31-4CF7-84F3-E2F4E2F21B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33E6F-1531-4166-BD4C-B176DB816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Kvalita oš. péče na pražských klinikách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ladé civilní sestry uplatňovaly v praxi péči takovou, jakou se ji naučily v oš. šk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Řadu úkonů vykonávaly jinak, než byl běžný zafixovaný pracovní postup (např. hygiena každého nemocného ráno i večer, používání zástěn, očistné lázně na lůžku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ato péče však byla ojedinělá z důvodu nedostatku oš. personálu, času, materiálu, peněz a nepochopení ze strany zdravotník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CBD-73D5-40B0-A0DF-714BE24867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A4C4D-75AB-43F0-B1E2-96A8C0522B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Atmosféra po 1. světové válce </a:t>
            </a:r>
            <a:br>
              <a:rPr sz="3200"/>
            </a:b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(1914 – 1918)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avotní stav obyvatel neutěšen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rádání, hlad, invalidita, podvýživa, infek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át není schopen zajistit dostatečná opatř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pacita nemocnic je nedostačují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B22-EA9F-4A6B-8131-7FADF048DD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BF9B0-E985-42A4-846A-D1AB9882EC61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Situace ve světě v roce 1934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425 léčebných ústav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 toho: - veřejné nemocnice 1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nemocnice pro TBC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chorobince 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ústavy pro choromyslné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6D5-B269-49F7-B7A3-2E44391AEA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B7F6E-3C7B-40CE-AE34-D8D650B4BA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Situace v Praze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éčebných ústavů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átní nemocnice pouze 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statní spravovaly – okresní města, pojišťovny, církevní řády, spolky, nad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š. personálem byly nejvíce vybaveny ústavy pro choromysln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5B3-F185-4A7E-9B74-EED9D4280E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47D82-0FB8-4B71-9996-1AF3C3818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Zdravotnictví 30. let 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ference péče poradenské před léčebnou péč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kopníkem MUDr. Bohuslav Albert (ve Zlíně vystudoval tzv. sociální ústa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pora Tomáše B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. Albert pomohl vystavět Baťovu nemocnic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věřil první tři ošetřovatelky návrhy na výstavbu a na vnitřní zařízení nemocn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8F4-C0B3-4D1F-933F-992CA5C0A77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E996F-E347-4099-ADD9-37FDE9541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Baťova nemocnice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voz zahájen r. 19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mbulantní vyšetření a ošetření zaměstnanců továr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noveny I. – II. třídy(podle saze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stnávali pouz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ivilní se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ovořilo se o ni jako o nejmodernější klinice u n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5DD-A858-4D7E-B2E1-266E9E9867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185A3-46A8-4854-94BC-A60B091DD3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Personál v Baťově nemocnici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4 osob (primář, sekundární lékař, vrchní sestra, správce, tři ošetřovatelky, jedna porodní asistentka, vrátný, strojník, kuchařka, tři služebné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stry – bledě modré šaty, bílé zástěry a čepečky, měly dvojnásobný plat než ošetřovatel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nárůst personálu (v roce 1928 – 41, v roce 1933 – 1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ět sester mělo povinnost školit a vychovávat ostatní se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B88-580F-499E-9CAB-F8C6B4E395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CA654-A178-4F57-A1E0-4496430B82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Život sester v Baťově nemocnici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ydlely v blízkosti nemoc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at 40 – 60 Kčs týd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ditel MUDr. Albert dlouho sestry neodlišoval podle vzdělání, spíše podle výkonů a schop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sná kontrola – finanční pokuty př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podala pacientovi oběd před operací 10,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pala na noční službě 25,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odjela na dovolenou, zanechavši oddělení ve strašném nepořádku 30,-a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C64-19B7-4456-880A-023CFB0D27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5B53C-6AE8-4F59-B6D4-8F8BB0836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E3E-DB01-4036-9211-2ED826D2C7E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1E190-AC5E-487B-989B-141FB8CE90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33E-8157-49AF-AFE9-20A124A1EAE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59779-000B-4A83-BA4B-BDF6FAED95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Život sester v Baťově nemocnici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5DA-131A-4772-8C67-C5529B66DD3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D1374-4187-4E91-B421-9F94E8E0B9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Složení ošetřovatelského personálu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holní sestry – ošetřovatelky ( katolické řádové se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konky ČD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jediněle školené diplomové sestry české a něme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347-D23A-48B5-9EFA-4ABCE39D31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4E90D-C056-4873-8744-E9D08F7BA478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Řeholní sestry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írkevní sestry německých rytířů, křížovníků, alžbětinek,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 mužských řádů – Milosrdní bratři, kapucíni, františkáni, minoriti, domonikáni,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enské kongregace – např. členky milosrdných sester sv. Františ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stry řídí sestra představená, které nikdo nesmí zasahovat do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753-9032-4608-B032-0F191023BA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F5F0E-4BD3-405D-A55C-72A0F5214042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Zastoupení jednotlivých ošetřovatelských pracovníků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více řeholních sester, z nichž měla naprostá menšina odbornou kvalifika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AD4-90F1-46AD-8E72-42125EA30A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BE7C3-B975-4958-998A-37C09B5F9EB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Požadavky na znalosti a práci ošetřovatelek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. 1920 přeložena kniha J. A. Delana „Domácí zdravovědy a ošetřování nemocných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je kladen na teoretické odborné znalosti, které jsou předpokladem dobré, přesně a laskavě provedené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niha je velmi kvalitní, uvádí např. : příprava a stlaní lůžek, prevence proleženin, polohování nemocného, podávání jídla, lázeň na lůžku, měření fyziol. funkcí, obklady, a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9AF-C674-4CFF-97EF-F844D81376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3BB4-76D5-485D-BFCE-346943DF81D1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Realita je jiná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áce ošetřovatelek neodpovídá kvalitě ve výše zmínění kn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patné poměry s prakticky neomezenou pracovní dobou jsou velkou zátě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81A-0057-4FBD-9AF4-9D3C37A15B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456F6-3664-40D0-A3B0-A1E86F3C4CD5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Úplné obsazení míst diplomovanými sestrami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bsazená místa byla jen na dvou klinikách (r. 19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terní klinika prof. MUDr. E. Maix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vní česká gynekologická klinika prof. MUDr. V. Piť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ětšina nemocnic zaměstnává řeholní sestry, proto první diplom. Sestry nebyly přijímány s porozumě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07A-1026-4089-84FF-E7E801B03E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50CE4-E5B6-4F28-BAD2-D65D044BB6FB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Ubytování ošetřovatelek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bytování ve školním internát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oje ne lůžkovém oddě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ěkteré sestry bydlely přímo na pokoji s nemocnými v koutě za zástěn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ádové sestry bydlely v tzv. klausurách (zvláštní ubytovny v areálu nemocn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634-7615-41D8-A90E-2813B25626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DF977-78FE-4650-B8CD-A290CA8BB15E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ka</cp:lastModifiedBy>
  <dcterms:modified xsi:type="dcterms:W3CDTF">2004-11-15T09:49:48Z</dcterms:modified>
  <cp:revision>6</cp:revision>
  <dc:subject/>
  <dc:title>Prezentace aplikace PowerPoint</dc:title>
</cp:coreProperties>
</file>